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CAAA07-BF26-4C23-8F07-40017EE6C8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327247-DE1E-4984-A509-04352021D3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860B7F-F822-4420-9D52-1D92B84154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DDDDE0-FEF3-452F-B9E3-EAB08E60EE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2D80BF-905A-4A77-BF71-9F7ABFFB99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CB9032-1B5B-4031-921D-816B05529B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C6D5E0-81A1-4AAF-8265-0D17068521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9BD2D4-08ED-475F-B2E2-5639F98525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C4BE63-801E-4108-A637-E5B3DBFB0F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265B97-7F1E-4C62-A45C-2290F6F1E8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C4AEF2-D470-4C88-AEF8-56334F2E31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1CCF17-BCBE-4F63-A0C3-655970A27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C1B032-2EA7-4B4F-BA01-99452E7D26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6E6333-1475-4BEC-8F44-84DFFA20D5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AA7547-9151-497D-8C0A-9B13DFD9A8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48860A-C925-4C91-AFFF-701CA5D2EA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B08582-B517-44C7-B343-5C06E044DD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744FF7-7BA7-43BE-82D5-C7386EF8A3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CD8FEF-F56D-4545-B904-9AC5073DB9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794940-B2E6-4B94-B064-765F8CA808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5C8D1B-826A-4597-9C28-2E251F39B5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63E87-DBA0-44D2-9ADB-0026F62E91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A9839-3455-434A-BC7B-3397AA8D7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534C3-3C3C-47E4-BBB2-AB8A2B9CB6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Century"/>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7D557-4B73-48BA-9DAB-6ADF7F0BF09E}"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Century"/>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Century"/>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D6F0B-C798-4C78-A6CE-5B75BE2671C1}"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Finance in Education</a:t>
            </a:r>
            <a:endParaRPr b="1" lang="en-US" sz="3600" spc="-1" strike="noStrike">
              <a:solidFill>
                <a:srgbClr val="003366"/>
              </a:solidFill>
              <a:latin typeface="Arial"/>
            </a:endParaRPr>
          </a:p>
        </p:txBody>
      </p:sp>
      <p:sp>
        <p:nvSpPr>
          <p:cNvPr id="95" name="PlaceHolder 2"/>
          <p:cNvSpPr>
            <a:spLocks noGrp="1"/>
          </p:cNvSpPr>
          <p:nvPr>
            <p:ph type="subTitle"/>
          </p:nvPr>
        </p:nvSpPr>
        <p:spPr>
          <a:xfrm>
            <a:off x="4673520" y="2927520"/>
            <a:ext cx="365760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16</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Unpredictable Future of Public School Finance</a:t>
            </a:r>
            <a:endParaRPr b="1" lang="en-US" sz="3200" spc="-1" strike="noStrike">
              <a:solidFill>
                <a:srgbClr val="006666"/>
              </a:solidFill>
              <a:latin typeface="Arial"/>
            </a:endParaRPr>
          </a:p>
        </p:txBody>
      </p:sp>
      <p:sp>
        <p:nvSpPr>
          <p:cNvPr id="9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ducation will continue to be viewed as the key to economic growth.</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re is a growing mismatch between the literacy of the labor force and the competency required for the jobs.</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 wide spectrum of school finance initiatives and experiments will be undertaken.</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gional disparities of educational resources will increase.</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number of public school enrollments in the US will increase.</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nly 15% of jobs will require diplomas.  More than half will require post secondary education and training.</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quity issues will become the major problems faced by policymakers.</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ducational equity will be redefined, not in terms of access, but in terms of expenditures.</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lusive forces educational leaders must consider in determing the educational structure includes analyzing the future in relation to these data:</a:t>
            </a:r>
            <a:endParaRPr b="0" lang="en-US" sz="2400" spc="-1" strike="noStrike">
              <a:solidFill>
                <a:srgbClr val="003366"/>
              </a:solidFill>
              <a:latin typeface="Arial"/>
            </a:endParaRPr>
          </a:p>
          <a:p>
            <a:pPr lvl="2" marL="1143000" indent="-22860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mographics</a:t>
            </a:r>
            <a:endParaRPr b="0" lang="en-US" sz="1800" spc="-1" strike="noStrike">
              <a:solidFill>
                <a:srgbClr val="003366"/>
              </a:solidFill>
              <a:latin typeface="Arial"/>
            </a:endParaRPr>
          </a:p>
          <a:p>
            <a:pPr lvl="2" marL="1143000" indent="-22860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terest rates</a:t>
            </a:r>
            <a:endParaRPr b="0" lang="en-US" sz="1800" spc="-1" strike="noStrike">
              <a:solidFill>
                <a:srgbClr val="003366"/>
              </a:solidFill>
              <a:latin typeface="Arial"/>
            </a:endParaRPr>
          </a:p>
          <a:p>
            <a:pPr lvl="2" marL="1143000" indent="-22860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x limitation measures</a:t>
            </a:r>
            <a:endParaRPr b="0" lang="en-US" sz="1800" spc="-1" strike="noStrike">
              <a:solidFill>
                <a:srgbClr val="003366"/>
              </a:solidFill>
              <a:latin typeface="Arial"/>
            </a:endParaRPr>
          </a:p>
          <a:p>
            <a:pPr lvl="2" marL="1143000" indent="-22860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ederal deficit/surplus</a:t>
            </a:r>
            <a:endParaRPr b="0" lang="en-US" sz="1800" spc="-1" strike="noStrike">
              <a:solidFill>
                <a:srgbClr val="003366"/>
              </a:solidFill>
              <a:latin typeface="Arial"/>
            </a:endParaRPr>
          </a:p>
          <a:p>
            <a:pPr lvl="2" marL="1143000" indent="-22860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isk management</a:t>
            </a:r>
            <a:endParaRPr b="0" lang="en-US" sz="1800" spc="-1" strike="noStrike">
              <a:solidFill>
                <a:srgbClr val="003366"/>
              </a:solidFill>
              <a:latin typeface="Arial"/>
            </a:endParaRPr>
          </a:p>
          <a:p>
            <a:pPr lvl="2" marL="1143000" indent="-22860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enefits</a:t>
            </a:r>
            <a:endParaRPr b="0" lang="en-US" sz="1800" spc="-1" strike="noStrike">
              <a:solidFill>
                <a:srgbClr val="003366"/>
              </a:solidFill>
              <a:latin typeface="Arial"/>
            </a:endParaRPr>
          </a:p>
          <a:p>
            <a:pPr lvl="2" marL="1143000" indent="-22860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ersonnel needs</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nresolved Issues</a:t>
            </a:r>
            <a:endParaRPr b="1" lang="en-US" sz="3600" spc="-1" strike="noStrike">
              <a:solidFill>
                <a:srgbClr val="006666"/>
              </a:solidFill>
              <a:latin typeface="Arial"/>
            </a:endParaRPr>
          </a:p>
        </p:txBody>
      </p:sp>
      <p:sp>
        <p:nvSpPr>
          <p:cNvPr id="10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o should be educated at public expense?</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what grade level should free education be provided?</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ill the states cut back education programs if revenues diminish?</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ill the states provided adequate funds to sustain their current programs at their desirable or optimum levels?</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hould the states continue to increase their share of the revenue mix even if it results in the loss of local control of education?</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s inadequacy of funding a matter of lack of ability to pay, the problems of taxpayers lack of willingness to pay, and/or the demographics of a particular state?</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ducation is considered by citizens of the United States to be of high priority and importance.  Progress and improvements usually occur over time, in spite of temporary setbacks.  There is no valid reason to believe that this will not continu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Future</a:t>
            </a:r>
            <a:endParaRPr b="1" lang="en-US" sz="3600" spc="-1" strike="noStrike">
              <a:solidFill>
                <a:srgbClr val="006666"/>
              </a:solidFill>
              <a:latin typeface="Arial"/>
            </a:endParaRPr>
          </a:p>
        </p:txBody>
      </p:sp>
      <p:sp>
        <p:nvSpPr>
          <p:cNvPr id="10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chool finance in the future will be affected by economic conditions, inflation or deflation, taxation policies, legislation, philosophies, and court actio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ew laws that are enacted will continue to bring greater equity and excellence to the financing of education but also with greater equity and fairness to the taxpayers who pay the cost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7T18:10:50Z</dcterms:created>
  <dc:creator>Cynthia Altemueller</dc:creator>
  <dc:description/>
  <dc:language>en-US</dc:language>
  <cp:lastModifiedBy>AEURY</cp:lastModifiedBy>
  <dcterms:modified xsi:type="dcterms:W3CDTF">2006-01-27T22:14:36Z</dcterms:modified>
  <cp:revision>3</cp:revision>
  <dc:subject/>
  <dc:title>Finance in Education</dc:title>
</cp:coreProperties>
</file>